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FA6C-809B-4ADE-A61B-03457810B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1FDD-657C-4FF0-B36F-011ADD1CB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9FC6-77A7-4765-B44B-0A96EBBD5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E3A4-214D-440C-8A64-BA20F4AE4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7A97-05DE-4422-A4F6-E86878C3D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9C06-C75C-4BCB-93D4-3A57A03FE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2AB3-C8E6-4EF4-AB22-B990406AF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579F-D3F2-4BF7-8EAC-C49021AFF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3A9C-4B47-4C27-8206-293E56764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55F1-0D10-4012-83D9-3188637CF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5667-7A62-4F27-B24E-1133AD7A2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A070-A0F4-468F-9D64-464399585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1C2E-3330-4150-AB00-EF6911918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5C40-EEA9-4C99-AFE4-56A7C3AC9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A29E-32A1-4872-A577-9A01D0944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E4AA-05D7-44D8-A249-A7744ABAC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2B41-81A2-49F0-B0DD-0161813C4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8FEC-6D0F-4249-B656-88B5BA149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C094-983D-4EDC-9CAD-332D7850B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B54B-B27E-4B0F-BA70-709AAECF3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FE67-AAB0-40C8-B788-5789C88DB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2BE1-8B85-49B4-9D6D-D74FA846C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2C0A-7DFB-4ED1-A91A-F99C51B98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128D-2741-4D91-A2E7-6C727D686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1C34-2610-4CB6-9DA1-7C65ED749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4A40-BAE3-40DA-B8C2-A7C0CF46D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FB3A-1B54-4D58-AB9B-95A1E87FB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0B1C-2994-4C13-AFB2-4C0C61966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4AD1-B3EC-4122-A47B-E2F59EE18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EF85-DBCD-4CDF-BB9D-99D86E942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DD54-A2A7-420C-BD04-DFE224887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7713-8A16-4ED5-A7A8-CC3FDF563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50A5-6D1B-41D7-B588-4D38A0E63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4B42-3DA1-4702-AB44-429BBD346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396D-DEF8-4DA1-A369-8B3A9FF07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7117-89E9-47BB-9B88-BA3FAC680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5DF7-63F7-4124-ACEE-CC72804A9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1CA1-536B-4811-8CF5-D78203DE6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ACE1-95CF-450B-ADA2-9F6B06942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9E20-B16C-4AC9-9FB4-B45775EE1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DB93-7128-4DAF-B280-C89F7146E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293C-1A93-4BF2-B4F8-4B079009F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96C8-D723-49A3-9119-FFC8436F2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465C-C8BE-4A07-8ADD-C5D8DC5AE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4E05-D32C-4B92-BCC7-CC24206D2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E418-9628-4F14-A82C-6B2C378AC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FA04-63B7-44F2-A0B4-EBF3B4F14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6C2D-5B84-402B-87A7-2593B0C9D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0C14-A2E6-4DC0-8429-F439CF312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4202-2EDF-4203-A3D4-87E393C6D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27D9-DE11-480F-A9ED-39263D2FC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2726-08A5-4F16-8096-922481BD2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23EC-BD1A-486F-AFFB-2D07914B4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EA94-147C-408E-A85F-83F69300C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6671-4BBE-4396-BBF1-F0F32B095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C69B-9EBF-488E-94DA-88575F3AE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6824-5DBD-4BC5-BD46-D432E32C0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EBE6-BA74-4AE4-AD56-2BC5696A0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50C7-219F-4F40-B29D-21BA4C827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2E23-2AF6-49D1-ADF7-2ACB578B1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3589-54C2-47FD-8110-3E9317F26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AABD-56F0-4D15-A180-F75ABDF46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1FC9-BF2B-4F09-90FB-1CAC6767C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FB9C-3FF2-48DA-AABB-9525418F5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215A-0EF5-49AA-A1E4-E6C21E09E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F622-A9BE-46A5-8932-969D9F514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6B47-7E37-4B80-8D03-8DE2F1474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189A-0108-449B-8D62-BC9BFD139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B265-8F82-4899-906B-31FC7766A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065B-598F-4EBE-B6B1-882F99C24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9F8F-89D4-49E6-B045-0C27EA8F8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A0DC-A012-42D3-AC38-7A4F33722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D4CB-B823-4B4D-9409-9F8D261B8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B6CE-F9EB-4E86-A1FD-E01E74B93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2D90-212D-4999-9925-DCFB7B547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929E-5E74-432E-95E7-D5427F7C8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BC05-E0DB-49A1-A9B7-FEAD63B70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D71B-44BE-41B8-BCA6-E219E9BAB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55D8-95C4-4DC1-98D2-F3F5485AE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4F0C-D331-4E39-996E-79CE9B327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7F7B-17BD-4751-8031-546BA15F8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6ADE-C9B5-4AA4-AE6E-67F28336B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9B5-C447-43FD-AE3E-F2D1151A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DCF-E8B7-451C-A689-A49C6DF4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8A9-5E46-491E-8D2F-9A44FE68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680-3AE0-437D-ACCA-70CE9FC2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A65-6984-4CBB-AB43-1CAC1CD5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161-F769-4C44-AD26-B14E7CDE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02C-A965-433D-BF67-0E56538F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12B-0845-40F4-B532-00393935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E868-87E0-4854-A2A8-3882F550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E29-1FEC-4596-AFEF-2C3CA928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70E-6CD2-49B8-B275-094EF374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B165-DBDB-4860-AC32-1F283682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6979-E321-46A9-8022-D460BDE7E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2819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larendon Cd (W1)"/>
              </a:rPr>
              <a:t>Cognitive Development:  Piaget’s and Vygotsky’s The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t each of Piaget’s stages of development, children’s thinking is assumed to be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qualitativel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different from their thinking at other stag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proposed that cognitive development occurs in an invariant sequenc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emes are sets of physical actions, mental operations, concepts, or theories people use to acquire and organize information about their worl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distinguished between three types of knowledge: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52120" y="3048120"/>
            <a:ext cx="6782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o-mathematical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Piaget’s theory two basic principles guide children’s intellectual development: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Child’s Representation of “Eight” in Piaget’s Theory </a:t>
            </a:r>
            <a:br>
              <a:rPr sz="44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1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5" name="Picture 6" descr="mee32357_0301"/>
          <p:cNvPicPr/>
          <p:nvPr/>
        </p:nvPicPr>
        <p:blipFill>
          <a:blip r:embed="rId1"/>
          <a:stretch/>
        </p:blipFill>
        <p:spPr>
          <a:xfrm>
            <a:off x="2133720" y="2362320"/>
            <a:ext cx="525780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used the terms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ssimila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ccommoda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o describe how children adapt to their environ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rough the process of assimilation children mol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ew information to fit their existing schem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rocess of changing existing schemata is called accommoda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 an interactional theorist, Piaget viewed development as a complex interaction of innate and environmental facto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roposition underlying a constructivist approach is that children must construct their own understandings of the world in which they liv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ccording to Piaget, the following four factors contribute to children’s cognitive development: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2120" y="3809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turation of inherited phys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hysical experiences with the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cial transmission of information and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quilib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Picture 2"/>
          <p:cNvPicPr/>
          <p:nvPr/>
        </p:nvPicPr>
        <p:blipFill>
          <a:blip r:embed="rId1"/>
          <a:stretch/>
        </p:blipFill>
        <p:spPr>
          <a:xfrm>
            <a:off x="1066680" y="1143000"/>
            <a:ext cx="7513920" cy="4662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2590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bject permanence involves the knowledge that objects continue to exist even when they can no longer be seen or acted 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bility to think about objects, events, or people in their absence marks the beginning of the preoperational stag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used the term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reoperational stage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because preschool children lack the ability to do some of the logical operations he observed in older childre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590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ing the preoperational stage, children can use symbols as a tool to think about their environ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ong with an increased ability to use words and images as symbols, children begin to use numbers as a tool for thinking during the preschool yea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Picture 2"/>
          <p:cNvPicPr/>
          <p:nvPr/>
        </p:nvPicPr>
        <p:blipFill>
          <a:blip r:embed="rId1"/>
          <a:stretch/>
        </p:blipFill>
        <p:spPr>
          <a:xfrm>
            <a:off x="1962000" y="1258920"/>
            <a:ext cx="5218200" cy="4340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found that young  children’s conceptions of the world are characterized by animism; that is, they do not distinguish between animate (living) and inanimate (mechanical) object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’s intuitive understandings of their physical and biological concepts are a little more sophisticated than Piaget believe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tructivism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the basi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many current reform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educa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Picture 2"/>
          <p:cNvPicPr/>
          <p:nvPr/>
        </p:nvPicPr>
        <p:blipFill>
          <a:blip r:embed="rId1"/>
          <a:stretch/>
        </p:blipFill>
        <p:spPr>
          <a:xfrm>
            <a:off x="1200240" y="1519200"/>
            <a:ext cx="674208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Metacogni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“thinking about thinking,”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it plays a very important role in children’s cognitive development during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middle childhoo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adolescent yea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rceiving and interpreting the world in terms of self is called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egocentrism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ree-year-old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em to have what are called collective monologues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which their remark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 each other are unrelate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590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Centra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means that young children tend to focus or center their attention on only one aspect of a stimulu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rspective-Taking Task </a:t>
            </a:r>
            <a:br>
              <a:rPr sz="44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3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7" name="Picture 4" descr="mee32357_0303"/>
          <p:cNvPicPr/>
          <p:nvPr/>
        </p:nvPicPr>
        <p:blipFill>
          <a:blip r:embed="rId1"/>
          <a:stretch/>
        </p:blipFill>
        <p:spPr>
          <a:xfrm>
            <a:off x="1066680" y="1905120"/>
            <a:ext cx="7467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elementary years, children begin to use mental operations and logic to think about events and objects in their environ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the concrete operational stage: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0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ing appears to be less rig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9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ild understands that operations can be mentally reversed or neg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riation Task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4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2" name="Picture 4" descr="mee32357_0304"/>
          <p:cNvPicPr/>
          <p:nvPr/>
        </p:nvPicPr>
        <p:blipFill>
          <a:blip r:embed="rId1"/>
          <a:stretch/>
        </p:blipFill>
        <p:spPr>
          <a:xfrm>
            <a:off x="38160" y="1981080"/>
            <a:ext cx="91058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Seria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volves the ability to order objects in a logical progress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had a major impact on the way we think about children’s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assification is a skill that begins to emerg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early childhoo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trix Classification Task </a:t>
            </a:r>
            <a:br>
              <a:rPr sz="44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5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6" name="Picture 4" descr="mee32357_0305"/>
          <p:cNvPicPr/>
          <p:nvPr/>
        </p:nvPicPr>
        <p:blipFill>
          <a:blip r:embed="rId1"/>
          <a:stretch/>
        </p:blipFill>
        <p:spPr>
          <a:xfrm>
            <a:off x="2895480" y="1828800"/>
            <a:ext cx="34974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e There More Dogs or Animals?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6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8" name="Picture 4" descr="mee32357_0306"/>
          <p:cNvPicPr/>
          <p:nvPr/>
        </p:nvPicPr>
        <p:blipFill>
          <a:blip r:embed="rId1"/>
          <a:stretch/>
        </p:blipFill>
        <p:spPr>
          <a:xfrm>
            <a:off x="1752480" y="1905120"/>
            <a:ext cx="53024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7428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ervation involves the understanding that an entity remains the same despite superficial changes in its form or physical appearanc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Picture 3"/>
          <p:cNvPicPr/>
          <p:nvPr/>
        </p:nvPicPr>
        <p:blipFill>
          <a:blip r:embed="rId1"/>
          <a:stretch/>
        </p:blipFill>
        <p:spPr>
          <a:xfrm>
            <a:off x="2666880" y="1295280"/>
            <a:ext cx="3873600" cy="41245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ropositional logic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nvolves the ability to draw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logical inferenc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ased on the relationship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etween two statements or premis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mee32357_0307"/>
          <p:cNvPicPr/>
          <p:nvPr/>
        </p:nvPicPr>
        <p:blipFill>
          <a:blip r:embed="rId1"/>
          <a:stretch/>
        </p:blipFill>
        <p:spPr>
          <a:xfrm>
            <a:off x="1523880" y="1828800"/>
            <a:ext cx="5641920" cy="4006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ndulum Task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7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called the ability to generate and test hypotheses in a logical and systematic manner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hypothetico-deductive thinking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emistry Task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8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6" name="Picture 4" descr="mee32357_0308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bility to think about multiple causes is </a:t>
            </a:r>
            <a:br>
              <a:rPr sz="4400"/>
            </a:b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combinatorial reasoning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taught us that children act as “little scientists,” trying to make sense of their world.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atio Task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3.9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9" name="Picture 4" descr="mee32357_0309"/>
          <p:cNvPicPr/>
          <p:nvPr/>
        </p:nvPicPr>
        <p:blipFill>
          <a:blip r:embed="rId1"/>
          <a:stretch/>
        </p:blipFill>
        <p:spPr>
          <a:xfrm>
            <a:off x="2666880" y="1523880"/>
            <a:ext cx="3481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Picture 2"/>
          <p:cNvPicPr/>
          <p:nvPr/>
        </p:nvPicPr>
        <p:blipFill>
          <a:blip r:embed="rId1"/>
          <a:stretch/>
        </p:blipFill>
        <p:spPr>
          <a:xfrm>
            <a:off x="2598840" y="1563840"/>
            <a:ext cx="3944880" cy="3728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has receive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most criticism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his idea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bout the qualitative natur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Picture 2"/>
          <p:cNvPicPr/>
          <p:nvPr/>
        </p:nvPicPr>
        <p:blipFill>
          <a:blip r:embed="rId1"/>
          <a:stretch/>
        </p:blipFill>
        <p:spPr>
          <a:xfrm>
            <a:off x="1935000" y="1504800"/>
            <a:ext cx="5272200" cy="3846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Neo-Piagetian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heorie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ve attempted to ad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eater specificit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 developmental changes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ile maintaining the basic assumptions of Piaget’s theor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Picture 2"/>
          <p:cNvPicPr/>
          <p:nvPr/>
        </p:nvPicPr>
        <p:blipFill>
          <a:blip r:embed="rId1"/>
          <a:stretch/>
        </p:blipFill>
        <p:spPr>
          <a:xfrm>
            <a:off x="1679400" y="1752480"/>
            <a:ext cx="578340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capture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ny of the major trend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children’s thinking.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uch of Piaget’s research focused on children’s development of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gical, scientific, and mathematical concept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2514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ne of the most important contributions of Piaget’s work concerns the purpose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goals of educa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second most important contribution of Piaget’s research is the idea that knowledg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constructed from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child’s own physical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mental activiti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have their own logic and ways of knowing, which follow predictable patterns of development as children biologically mature and interact with the worl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’s theory also emphasizes the important role of play in children’s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v Vygotsky was a major figure in Russian psycholog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’s theor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tresses relations betwee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individual and societ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is considered one of the earliest critics of Piaget’s theory of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ccording to Vygotsky, children are born with elementary mental abilities such as perception, attention, and memor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defined cognitive development in terms of qualitative changes in children’s thinking process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believed language was an important psychological tool which influenced children’s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identified three stages in children’s use of language: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35268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ocen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er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Picture 3"/>
          <p:cNvPicPr/>
          <p:nvPr/>
        </p:nvPicPr>
        <p:blipFill>
          <a:blip r:embed="rId1"/>
          <a:stretch/>
        </p:blipFill>
        <p:spPr>
          <a:xfrm>
            <a:off x="1755720" y="2519280"/>
            <a:ext cx="56307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ared with Piaget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also place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stronger emphasis on cultur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shaping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’s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was an early constructivist theorist in psycholog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 Vygotsky, the construct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knowledge is no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 individual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truction proces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ared with Piaget, Vygotsky also placed a stronger emphasis on culture in shaping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’s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believed instruction by more knowledgeable peers or adults is at the heart of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believed that learning precedes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thought egocentric speech is the means by which children move from being regulated by others to being regulated by their own thinking process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’s theory places much less emphasis on physical maturation or innate biological processes than most other developmental theori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Vygotsky thought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rivate speech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serves an importa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f-regulatory func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icture 2"/>
          <p:cNvPicPr/>
          <p:nvPr/>
        </p:nvPicPr>
        <p:blipFill>
          <a:blip r:embed="rId1"/>
          <a:stretch/>
        </p:blipFill>
        <p:spPr>
          <a:xfrm>
            <a:off x="1576440" y="1698480"/>
            <a:ext cx="598968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th Piaget and Vygotsky emphasized the importanc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peers in children’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Picture 2"/>
          <p:cNvPicPr/>
          <p:nvPr/>
        </p:nvPicPr>
        <p:blipFill>
          <a:blip r:embed="rId1"/>
          <a:stretch/>
        </p:blipFill>
        <p:spPr>
          <a:xfrm>
            <a:off x="1392120" y="1089000"/>
            <a:ext cx="6357960" cy="468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believed that children actively construct their own knowledge of the environment using what they already know to interpret new events and object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and Vygotsk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mphasized that childre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e not passive recipient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knowledge and recognized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he value of play and activit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cognitive developmen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Picture 3"/>
          <p:cNvPicPr/>
          <p:nvPr/>
        </p:nvPicPr>
        <p:blipFill>
          <a:blip r:embed="rId1"/>
          <a:stretch/>
        </p:blipFill>
        <p:spPr>
          <a:xfrm>
            <a:off x="-1135080" y="1630440"/>
            <a:ext cx="11387160" cy="39621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71400" y="457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ild’s learning is shaped by their social influenc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gree or disagree and W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iaget was a stage theorist who divided cognitive development into four major stages: sensorimotor, preoperations, concrete operations, and formal operation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5:45:56Z</dcterms:created>
  <dc:creator>McGraw-Hill Higher Education</dc:creator>
  <dc:description/>
  <dc:language>en-US</dc:language>
  <cp:lastModifiedBy>anne marie</cp:lastModifiedBy>
  <dcterms:modified xsi:type="dcterms:W3CDTF">2011-10-26T17:53:35Z</dcterms:modified>
  <cp:revision>59</cp:revision>
  <dc:subject/>
  <dc:title>Chapter 3</dc:title>
</cp:coreProperties>
</file>